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FE6-7BB0-4390-A424-58896DF4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259-AEAA-4F25-975F-D3719CD0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903-979B-4081-A4B9-6C372AD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274-32A9-4DC4-8810-B82DF94A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699-55D5-4C1D-847C-6BC1583D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7BF-2801-49A6-A5B5-86F7D76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AAC-811A-490A-B959-113E928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52C-8216-4271-A9E8-8273FB2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725-EC02-4157-B7E5-0A5351A3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2E6-DB33-47DA-8D07-04AE6A7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2C6-BA26-4AEC-A1B2-D1D4F7C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DD2-79A3-4293-AFF2-7626DCB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E3F7-60E6-4052-9520-41A67D5FF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The class is m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silly noi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Tapping, squeaky shoes, animal sounds, farting imitation, whistling, popping, clicking pen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ass is making silly no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joeHand 2"/>
              </a:rPr>
              <a:t>Author’s Advice</a:t>
            </a:r>
            <a:r>
              <a:rPr b="1" lang="en-US" sz="3600" spc="-1" strike="noStrike">
                <a:solidFill>
                  <a:srgbClr val="ffffff"/>
                </a:solidFill>
                <a:latin typeface="joeHand 2"/>
              </a:rPr>
              <a:t>: Remain friendly, avoid raising your vo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Gentle Repri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Light Rem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Assertive I-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Threat, using peer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Embarrass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alibri"/>
              </a:rPr>
              <a:t>Students are talking while you are talking or while other students are sharing out ans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alking when teacher is tal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uggestions from the Auth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aise your voice and say “I need you to be quie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wer your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p teaching and stand sil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reaten to give ho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ntion staying af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cus on one tal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What would you do differently when you are teaching your worst class to improve the situ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How to improve the situation of teaching your worst cla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Suggestions from the Auth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In class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1. Institute a class management plan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religiously follow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2.     Carefully plan the seating ch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onstant proximity control (don’t go near your desk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void “fun” activities you do with other classes. Peer pressure will convince the class  that they can do same activities if behavior impro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Outside  class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Make phone calls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Use detention, but not of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16:15Z</dcterms:created>
  <dc:creator>ccps</dc:creator>
  <dc:description/>
  <dc:language>en-US</dc:language>
  <cp:lastModifiedBy>Robyn C Marsden</cp:lastModifiedBy>
  <dcterms:modified xsi:type="dcterms:W3CDTF">2011-04-19T16:30:02Z</dcterms:modified>
  <cp:revision>4</cp:revision>
  <dc:subject/>
  <dc:title>What Would You Do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78837</vt:lpwstr>
  </property>
</Properties>
</file>